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6794-B4B7-41C1-B0C6-AC2CF37734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F37C-3F16-46D8-81C9-C30119FE41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25F0-FD3C-48E6-8539-36E69C67AA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4B5C-8FFA-4B6E-B8A0-E5E26B82A5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7045-CD82-4A1D-B0AB-DB7887DC4C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1DEF-FA45-4B8F-A976-3FE1D825A75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B7CE-B127-447C-BA0D-E03CF867B4D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B260-C151-4B3E-8F72-217A08D79D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B8F8-E70F-4FFE-85DD-BBBB740CDC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93D2-2692-4F4F-AC98-3620769D50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C3A9-42AD-4633-912D-125050D5D92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866C-F990-4182-9FB3-1C13C410A4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787E-E251-4919-85FF-F1FA614F93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2915-F258-45DD-9AAD-3AAA5E5AE7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3FE2-0D03-4B63-A8BA-B79D1B937D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543F-9618-4C72-819B-8C1D256E4B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FBDB-E841-441C-9273-26C690A5263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44CE-82D8-44E6-BF04-AC1962DCEAC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0F30-8819-409A-8D1B-0FE5851A61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2328-86EF-41E7-82F1-3EF2F4962E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4BB9-F182-4C05-9B5C-0601AC8A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58D0-B043-419F-8FD2-4F123C1A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9D1-E956-4332-814D-7351DF74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B4AF-1627-41FF-B566-D3D1A5E0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492-AB69-41C5-B018-FC06A77F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6556-4F73-4482-9D14-658E0523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554-3AB7-420E-908E-EF214469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A025-ACD0-4770-A4F0-0C506FBA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047-6F3F-4224-838F-C86B8E81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91F-B868-4A04-AFED-A8905A3F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283E-6F85-4FB1-8A52-1029AE22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CDB-FACB-49A8-9E42-8B89FFF3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ACC9-8447-4367-85B4-E7B418DC4E7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660066"/>
                </a:solidFill>
                <a:latin typeface="Comic Sans MS"/>
              </a:rPr>
              <a:t>SYMBOLY ZÁCHR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48320" y="50292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můcka pro II. stupeň ZŠ a SŠ – křesťanské symboly v antických katakomb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20px-Ichthys"/>
          <p:cNvPicPr/>
          <p:nvPr/>
        </p:nvPicPr>
        <p:blipFill>
          <a:blip r:embed="rId1"/>
          <a:stretch/>
        </p:blipFill>
        <p:spPr>
          <a:xfrm>
            <a:off x="2743200" y="2590920"/>
            <a:ext cx="392436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ABRAHÁMOVA OB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iv obětování milovaného syna Izáka Abrahámem je dalším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 řady výjevů zázračných zásahů ve prospěch života člově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 dalších zmiňme např. tři mládence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eci ohnivé, Daniela v jámě se lvy, Jonáše zachráněného z břicha velryby, Mojžíše a vytrysknutí zázračného pramene na poušti, uzdravení malomocného, vzkříšení Lazara apod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obrazení Abrahámovy oběti může však být narážkou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 n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ového Izáka, tj. Krist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skutečně obětovaného milovaného syna, dokonalé oběti jednou provždy, a tudíž i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isté cesty zpět k Boh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056, Catacomba di Priscilla, cubicolo della Velata, luneta s orantkou, 3"/>
          <p:cNvPicPr/>
          <p:nvPr/>
        </p:nvPicPr>
        <p:blipFill>
          <a:blip r:embed="rId1"/>
          <a:stretch/>
        </p:blipFill>
        <p:spPr>
          <a:xfrm>
            <a:off x="-79200" y="0"/>
            <a:ext cx="9223200" cy="69166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219320"/>
            <a:ext cx="579132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Modlící se žena (orantka),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ýjev z hrobky zahalené ženy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 Prisciliných katekombách v Římě,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ORANTKA (modlící se žen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obrazení člověka s rozepjatýma rukama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 dlaněmi vzhůru k nebi je známým vyobrazením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odlitebního postoje křesťan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V raně křesťanských pohřebištích (katakombách) obvykle znamená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íru ve spasenou duši křesťana směřující k Boh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isciliných katakombách je uprostřed zobrazena duše zemřelé ženy - vdovy obklopená dvěma dalšími výjevy z jejího života: vlevo uzavřením manželství před biskupem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trůně a vpravo mateřství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038, Catacomba di S"/>
          <p:cNvPicPr/>
          <p:nvPr/>
        </p:nvPicPr>
        <p:blipFill>
          <a:blip r:embed="rId1"/>
          <a:stretch/>
        </p:blipFill>
        <p:spPr>
          <a:xfrm>
            <a:off x="0" y="0"/>
            <a:ext cx="9223200" cy="6918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00400" y="5181120"/>
            <a:ext cx="5562720" cy="1676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Ryba a koš s pěti chleby, 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vyobrazení z Luciiny krypty 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v Kalixtových katakombách v Římě, 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přelom 2. a 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660066"/>
                </a:solidFill>
                <a:latin typeface="Arial"/>
              </a:rPr>
              <a:t>EUCHARISTICKÁ RY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důležitým prvkům víry, ke kterým se upínala naděje prvních křesťanů, náležela nepochybně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ucharist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která v různých symbolických vyjádřeních patří k velmi častým motivům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katakombálním malířství a sochařství: předně jako znázornění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krmu pro věčný živ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ale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amotného Kris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ba a koš chlebů (nebo 2 ryby a 5 chlebů apod.) jsou narážkou n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ucharistickou přítomnost Kris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uprostřed svého, mnohdy trpícího li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036, Catacomba di S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9888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3048120"/>
            <a:ext cx="358128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Kristus Dobrý pastýř, 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detail ze stropu Luciiny krypty 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v Kalixtových katakombách v Římě, </a:t>
            </a:r>
            <a:br>
              <a:rPr sz="2400"/>
            </a:br>
            <a:r>
              <a:rPr b="1" lang="cs-CZ" sz="2400" spc="-1" strike="noStrike">
                <a:solidFill>
                  <a:srgbClr val="000066"/>
                </a:solidFill>
                <a:latin typeface="Comic Sans MS"/>
              </a:rPr>
              <a:t>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60066"/>
                </a:solidFill>
                <a:latin typeface="Arial"/>
              </a:rPr>
              <a:t>DOBRÝ PASTÝ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astýř starajícího se o své stá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cs-CZ" sz="2800" spc="-1" strike="noStrike">
                <a:solidFill>
                  <a:srgbClr val="660066"/>
                </a:solidFill>
                <a:latin typeface="Arial"/>
              </a:rPr>
              <a:t>Hospodin je můj pastýř, nic nepostrádám...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(Žalm  2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brý pastýř, který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cs-CZ" sz="2800" spc="-1" strike="noStrike">
                <a:solidFill>
                  <a:srgbClr val="660066"/>
                </a:solidFill>
                <a:latin typeface="Arial"/>
              </a:rPr>
              <a:t>za ovce pokládá svůj život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(J 10,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ristus smiřuje hříšníka s Bohem a vrací mu život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v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astupu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uši zemřelé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astý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samotným Kristem, který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stou vedouc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 Boh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obrazení Dobrého pastýř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Kalixtových katakomb prohlubuje symboliku 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dobu s vodou v ruce pastýře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terá je odkazem na křest a obecně na svátosti (zvláště eucharistii), slovy Janova evangel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do se napije vody, kterou mu dám já, nebude žíznit navěky, voda se v něm stane pramenem vody tryskající k věčnému životu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J 4,14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3760" y="762120"/>
            <a:ext cx="380988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Comic Sans MS"/>
              </a:rPr>
              <a:t>Věnec vítězství, ústřední výjev figurálního náhrobku </a:t>
            </a:r>
            <a:br>
              <a:rPr sz="2400"/>
            </a:br>
            <a:r>
              <a:rPr b="1" lang="cs-CZ" sz="2400" spc="-1" strike="noStrike">
                <a:solidFill>
                  <a:srgbClr val="333399"/>
                </a:solidFill>
                <a:latin typeface="Comic Sans MS"/>
              </a:rPr>
              <a:t>z Vatikánských muzeí,</a:t>
            </a:r>
            <a:br>
              <a:rPr sz="2400"/>
            </a:br>
            <a:r>
              <a:rPr b="1" lang="cs-CZ" sz="2400" spc="-1" strike="noStrike">
                <a:solidFill>
                  <a:srgbClr val="333399"/>
                </a:solidFill>
                <a:latin typeface="Comic Sans MS"/>
              </a:rPr>
              <a:t>pol. 4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DSCF8307"/>
          <p:cNvPicPr/>
          <p:nvPr/>
        </p:nvPicPr>
        <p:blipFill>
          <a:blip r:embed="rId1"/>
          <a:stretch/>
        </p:blipFill>
        <p:spPr>
          <a:xfrm>
            <a:off x="-190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60066"/>
                </a:solidFill>
                <a:latin typeface="Arial"/>
              </a:rPr>
              <a:t>VĚNEC VÍTĚZSTV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 Novém zákoně je boj za víru porovnáván se sportovními hrami.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„Oni to podstupují pro pomíjitelný věnec, my však pro věnec nepomíjitelný.“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(1 K 9,25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avřínový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ěnec jako předzvěst budoucího života s Kriste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se často objevuje na raně křesťanských sarkofázích zvláště ze 4. století. Velmi často je spojen s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Kristovým monograme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(chrismon), který je do něho vepsán. Řecká písmena X (chí)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 P (ró) znamenají Christos (tj. Kristus). Po povolení křesťanské víry (313) se Kristův monogram ve vavřínovém věnci objevuje velmi hojně doplněn o další prvky symbolického charakteru. Na sarkofázích nahrazuj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zmrtvýchvstalého Krist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ěncem vrcholí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kříž s holubicemi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na břevnech – to jsou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duše křesťanů toužících po věčném životě s Kristem vítězícím nad smrt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042920" y="2997000"/>
            <a:ext cx="6732720" cy="22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pracova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techetické a pedagogické centrum Biskupství královéhradecké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rámci projektu „Využití křesťanského dědictví ve výuce“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utorem fotografií je PhDr. Radek Martin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rčeno pouze pro výukové účel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lista-loga_barevne_mal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195640" y="5157720"/>
            <a:ext cx="4392360" cy="795240"/>
          </a:xfrm>
          <a:prstGeom prst="rect">
            <a:avLst/>
          </a:prstGeom>
          <a:ln w="0">
            <a:noFill/>
          </a:ln>
        </p:spPr>
      </p:pic>
      <p:pic>
        <p:nvPicPr>
          <p:cNvPr id="92" name="Obrázek 1" descr=""/>
          <p:cNvPicPr/>
          <p:nvPr/>
        </p:nvPicPr>
        <p:blipFill>
          <a:blip r:embed="rId2"/>
          <a:stretch/>
        </p:blipFill>
        <p:spPr>
          <a:xfrm>
            <a:off x="3733920" y="457200"/>
            <a:ext cx="182880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měty k práci se symboly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 katako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dejte úkol najít co nejvíce informací o tom, jak žili křesťané ve starověkém Římě a co pro ně znamenaly katakom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mítněte obraz z katakomb: žáci jmenují postavy či symboly, které vid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áci mohou hledat souvislost zobrazeného s některou biblickou událostí nebo se životem křesťanů této do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áci se seznámí s názvem obrazu (kliknutím se zobrazí) a s několika informacemi o obraze (na dalším snímku za obraz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vořte o tomto symbolu v souvislosti s darem spásy – to je osvobození od moci zla, ve který první křesťané věřili. Má tato víra něco společného s potřebami a touhami našich současníků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032, Catacomba di Domitilla, Epitaf Antonia s kotvou a rybami"/>
          <p:cNvPicPr/>
          <p:nvPr/>
        </p:nvPicPr>
        <p:blipFill>
          <a:blip r:embed="rId1"/>
          <a:stretch/>
        </p:blipFill>
        <p:spPr>
          <a:xfrm>
            <a:off x="-69840" y="-49320"/>
            <a:ext cx="10836360" cy="8128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Kotva a ryby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na Antoniově epitafu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z Domitiliných katakomb v Římě,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660066"/>
                </a:solidFill>
                <a:latin typeface="Arial"/>
              </a:rPr>
              <a:t>KOTVA A RYB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tva je symbolem naděje, jistoty a spá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ává stabilitu lodi na rozbouřeném m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 jistí místo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 přístav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Jistota Božího zaslíb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„pevné zakotvení v naději“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zmiňovaná v listě Židům (6,18–19) v narážce na věčný život (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„jako první z nás vstoupil do nebeské svatyně Ježíš“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je důvodem, proč se symbolické zobrazení kotvy objevuje na mnoha křesťanských náhrobcích, a to nejvíce kolem roku 300, kdy opět zesílilo pronásledován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varově je často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tylizována do kříž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symbolu Kristova utrpení, ačkoliv se jinak v těchto dobách samotný symbol kříže nevyskytuje, protože je stále chápán jako potupný popravčí nástroj.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yb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ředstavují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ěříc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ale také samotnou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ucharisti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tj. zaručený prostředek vedoucí ke spáse (věčnému životu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33cc"/>
              </a:solidFill>
              <a:latin typeface="Arial"/>
            </a:endParaRPr>
          </a:p>
        </p:txBody>
      </p:sp>
      <p:pic>
        <p:nvPicPr>
          <p:cNvPr id="59" name="Picture 4" descr="027a"/>
          <p:cNvPicPr/>
          <p:nvPr/>
        </p:nvPicPr>
        <p:blipFill>
          <a:blip r:embed="rId1"/>
          <a:stretch/>
        </p:blipFill>
        <p:spPr>
          <a:xfrm>
            <a:off x="17640" y="15840"/>
            <a:ext cx="9108720" cy="6831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5562360" y="5334120"/>
            <a:ext cx="3276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00cc"/>
                </a:solidFill>
                <a:latin typeface="Comic Sans MS"/>
              </a:rPr>
              <a:t>Holubice </a:t>
            </a:r>
            <a:br>
              <a:rPr sz="2400"/>
            </a:br>
            <a:r>
              <a:rPr b="1" lang="cs-CZ" sz="2400" spc="-1" strike="noStrike">
                <a:solidFill>
                  <a:srgbClr val="6600cc"/>
                </a:solidFill>
                <a:latin typeface="Comic Sans MS"/>
              </a:rPr>
              <a:t>s olivovou ratolestí</a:t>
            </a:r>
            <a:br>
              <a:rPr sz="2400"/>
            </a:br>
            <a:r>
              <a:rPr b="1" lang="cs-CZ" sz="2400" spc="-1" strike="noStrike">
                <a:solidFill>
                  <a:srgbClr val="6600cc"/>
                </a:solidFill>
                <a:latin typeface="Comic Sans MS"/>
              </a:rPr>
              <a:t>na náhrobku Augúriné,</a:t>
            </a:r>
            <a:br>
              <a:rPr sz="2400"/>
            </a:br>
            <a:r>
              <a:rPr b="1" lang="cs-CZ" sz="2400" spc="-1" strike="noStrike">
                <a:solidFill>
                  <a:srgbClr val="6600cc"/>
                </a:solidFill>
                <a:latin typeface="Comic Sans MS"/>
              </a:rPr>
              <a:t>konec 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660066"/>
                </a:solidFill>
                <a:latin typeface="Arial"/>
              </a:rPr>
              <a:t>HOLUBICE S OLIVOVOU RATOLESTÍ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mbolické zobrazení holubice s olivovou ratolestí je narážka na holubici ohlašující Noemovi konec potop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zvěst Božího míru pro svě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Gn 8,10.1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to zobrazení může být chápáno rovněž jak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názornění kř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obecně křesťana zachráněného obmytím vodou z nákazy hříchu, a také jako vyjádření míru, který duši člověka poskytuje tato svát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náhrobcích často chápána jako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asená křesťanova duš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terá po přestálém utrpení v tomto světě došla do blaženého svě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livová ratolest může být nahrazena snítkou vavřínu nebo palmovou ratolestí odkazující na mučednickou korunu zemřelé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042, Catacomba di Priscilla, Capella Greca, Zuzana obviněná starci z Babylonu, nahoře Malomocný"/>
          <p:cNvPicPr/>
          <p:nvPr/>
        </p:nvPicPr>
        <p:blipFill>
          <a:blip r:embed="rId1"/>
          <a:stretch/>
        </p:blipFill>
        <p:spPr>
          <a:xfrm>
            <a:off x="-453960" y="0"/>
            <a:ext cx="9597960" cy="7197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3886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Modlící se Zuzana osočovaná starci,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ýjev z Řecké kaple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 Prisciliných katakombách v Římě,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660066"/>
                </a:solidFill>
                <a:latin typeface="Arial"/>
              </a:rPr>
              <a:t>ZUZANA A STAR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rvních staletích pozvolna vzniká zárodek nového křesťanského umění a upuštění od židovského zákazu zobrazování Boha. Mladá křesťanská obec, opakovaně ohrožovaná krvavým pronásledováním, byla povzbuzována čtením starozákonních textů i evangelií, zvlášt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ryvky zdůrazňujícími zázračný Boží zásah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e prospěch člověk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čítání příběhu o zachráněné Zuzaně nespravedlivě obviněné starci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 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bylo nepochybně reakcí na pomluvy většinové společnosti připisující křesťanům páchání různých zvráceností (např. kanibalismu pramenícího z doslovně chápaných Kristových slov při ustanovení eucharisti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043, Catacomba di Priscilla, cubicolo della Velata, Oběť Abrahamova, 3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67080" y="228600"/>
            <a:ext cx="4724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Oběť Abrahámova,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ýjev z hrobky zahalené ženy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 Prisciliných katakombách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v Římě,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Comic Sans MS"/>
              </a:rPr>
              <a:t>3. stol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techetické a pedagogické centrum</dc:creator>
  <dc:description/>
  <dc:language>en-US</dc:language>
  <cp:lastModifiedBy>Zimmermannová Marie ThLic. Ing.</cp:lastModifiedBy>
  <dcterms:modified xsi:type="dcterms:W3CDTF">2012-07-13T17:37:49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